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18A-32C5-45D1-86A4-ACBA589C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F5E-1DA2-4071-99AD-31DE354B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73E-1C15-48BF-BDE0-9929E74B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DBE-6AD8-484F-B622-4A21A103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FD09-DA0D-48E1-9D62-0D24ABBC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3E59-1595-4746-8D81-18A82B6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2ECA-E3F4-4B80-816A-A60C851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A51C-EAA2-48BE-A3C4-B955E564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2F23-EF9F-41B2-B8D6-83BF5B9C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4F14-2C80-4D7E-9D45-3C8CC5C3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1E92-69BC-44A6-946A-F3BCAED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473-B8AA-4D21-B5B7-7F82DDF3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1EBB-1F9F-4D93-A91F-6A86B3F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AAB0-77AA-44B4-ADE7-0BD3539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32B2-265F-46DF-BA34-CCDA785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A993-8553-40F3-9876-BF921349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9F15-B673-4A7E-8FA0-EB7A352E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9F6-A817-4B37-A573-5E86AF22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CC4-B608-4073-9202-EA3446DE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36A-D9F1-4833-B12B-5F5235A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41C-99E7-48AF-97E7-7DEFA18C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4D5-F706-4C25-BD74-99120F3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C0D-5AFC-47BA-9B03-11D63AE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2DF-92E5-459C-84B8-76F2DDB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D6F-53C4-4A2E-B20C-570E2CC8F89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5899-9F89-4F41-8AA8-A304F6B14A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flags_nations/nations_g_to_n_variant_page_mexico_fl.html" TargetMode="External"/><Relationship Id="rId2" Type="http://schemas.openxmlformats.org/officeDocument/2006/relationships/hyperlink" Target="http://www.animationfactory.com/free/flags_nations/nations_g_to_n_variant_page_mexico_fl.html" TargetMode="Externa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people_a_l/legal_variant_page_lawyers_talking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rissa Maldonado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lf Portra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Teen Graphics"/>
          <p:cNvPicPr/>
          <p:nvPr/>
        </p:nvPicPr>
        <p:blipFill>
          <a:blip r:embed="rId1"/>
          <a:stretch/>
        </p:blipFill>
        <p:spPr>
          <a:xfrm>
            <a:off x="-685800" y="-533520"/>
            <a:ext cx="3486240" cy="348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60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Teen Graphics"/>
          <p:cNvPicPr/>
          <p:nvPr/>
        </p:nvPicPr>
        <p:blipFill>
          <a:blip r:embed="rId2"/>
          <a:stretch/>
        </p:blipFill>
        <p:spPr>
          <a:xfrm>
            <a:off x="6114960" y="28195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ARI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3048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71680" t="10020" r="0" b="60636"/>
          <a:stretch/>
        </p:blipFill>
        <p:spPr>
          <a:xfrm>
            <a:off x="5110200" y="1981080"/>
            <a:ext cx="288612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55914" t="0" r="0" b="50409"/>
          <a:stretch/>
        </p:blipFill>
        <p:spPr>
          <a:xfrm>
            <a:off x="1143000" y="2057400"/>
            <a:ext cx="3048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out 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am from Monterrey, Nuevo Le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spectful young ch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iendly ch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have a high accomplishment leve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114" name=""/>
            <p:cNvSpPr/>
            <p:nvPr/>
          </p:nvSpPr>
          <p:spPr>
            <a:xfrm>
              <a:off x="0" y="306216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306216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9c004e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8" name="" descr="mexico_fl_md_wht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2895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y High Pow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lbertus Medium"/>
              </a:rPr>
              <a:t>Responsibl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lbertus Medium"/>
              </a:rPr>
              <a:t>Organized young la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lbertus Medium"/>
              </a:rPr>
              <a:t>In dependable pers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elligent young la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mitted per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ust worthy young chic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0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Butterfly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2092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5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y Weaknes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of my weakness is that I don’t do  good test taking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, weakness is not knowing the prepositions phras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Bandaid"/>
          <p:cNvPicPr/>
          <p:nvPr/>
        </p:nvPicPr>
        <p:blipFill>
          <a:blip r:embed="rId1"/>
          <a:stretch/>
        </p:blipFill>
        <p:spPr>
          <a:xfrm>
            <a:off x="4648320" y="4038480"/>
            <a:ext cx="4495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at did I Learn Today?</a:t>
            </a:r>
            <a:br>
              <a:rPr sz="40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he question of the day!!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have a high body intelligence and body Kinesthetic hab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am a ISTJ pers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eaning of the two or more words that sound the same and have the same spell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 the easier phrase to remember about the conjunctions phrase.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AN BOYS!!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to do sentence combing, by using fewer words possibl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to remember the preposition phrase easi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621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dog ate my homework"/>
          <p:cNvPicPr/>
          <p:nvPr/>
        </p:nvPicPr>
        <p:blipFill>
          <a:blip r:embed="rId1"/>
          <a:stretch/>
        </p:blipFill>
        <p:spPr>
          <a:xfrm>
            <a:off x="6629400" y="464832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 the Future…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 want to graduate from college in about four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jor in accounting, dealing with the F.B.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ve a minor in International Busi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marry in about five to six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vel around the wor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2629080"/>
            <a:ext cx="9144000" cy="1601640"/>
            <a:chOff x="0" y="2629080"/>
            <a:chExt cx="9144000" cy="1601640"/>
          </a:xfrm>
        </p:grpSpPr>
        <p:sp>
          <p:nvSpPr>
            <p:cNvPr id="137" name=""/>
            <p:cNvSpPr/>
            <p:nvPr/>
          </p:nvSpPr>
          <p:spPr>
            <a:xfrm>
              <a:off x="0" y="26290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0" y="2629080"/>
              <a:ext cx="9144000" cy="1601640"/>
              <a:chOff x="0" y="2629080"/>
              <a:chExt cx="9144000" cy="160164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26290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629080"/>
                <a:ext cx="9144000" cy="16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9c004e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" descr="lawyers_talking_md_wht.gif"/>
          <p:cNvPicPr/>
          <p:nvPr/>
        </p:nvPicPr>
        <p:blipFill>
          <a:blip r:embed="rId2"/>
          <a:stretch/>
        </p:blipFill>
        <p:spPr>
          <a:xfrm>
            <a:off x="6477120" y="48006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did I like about the English Program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ogram Hispanic Future Professional Academy Program was a good experience for  me because I got to refresh my mind about english and learn about topic that I never learn before. I got to met new people and had a chance to explore the college life before I start in the fall. Another point is that I’m getting the opportunity to retake my ACT, so I could improve my score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925720"/>
            <a:ext cx="9144000" cy="1006560"/>
            <a:chOff x="0" y="2925720"/>
            <a:chExt cx="9144000" cy="1006560"/>
          </a:xfrm>
        </p:grpSpPr>
        <p:sp>
          <p:nvSpPr>
            <p:cNvPr id="146" name=""/>
            <p:cNvSpPr/>
            <p:nvPr/>
          </p:nvSpPr>
          <p:spPr>
            <a:xfrm>
              <a:off x="0" y="2925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0" y="2925720"/>
              <a:ext cx="9144000" cy="1006560"/>
              <a:chOff x="0" y="2925720"/>
              <a:chExt cx="9144000" cy="100656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925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925720"/>
                <a:ext cx="914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0" name="" descr="book_page_flip_md_wht.gif"/>
          <p:cNvPicPr/>
          <p:nvPr/>
        </p:nvPicPr>
        <p:blipFill>
          <a:blip r:embed="rId1"/>
          <a:stretch/>
        </p:blipFill>
        <p:spPr>
          <a:xfrm>
            <a:off x="2514600" y="5638680"/>
            <a:ext cx="350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9:16:24Z</dcterms:created>
  <dc:creator>kk ss</dc:creator>
  <dc:description/>
  <dc:language>en-US</dc:language>
  <cp:lastModifiedBy>College of Education</cp:lastModifiedBy>
  <dcterms:modified xsi:type="dcterms:W3CDTF">2006-07-09T22:10:29Z</dcterms:modified>
  <cp:revision>10</cp:revision>
  <dc:subject/>
  <dc:title>Marissa Maldonado  </dc:title>
</cp:coreProperties>
</file>